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B30-34F6-4261-8624-CDAC51B2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23D-FC88-4887-96EF-EEBBCA59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6C2-A9F0-4653-A6D1-A1E630AC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079-252F-44E9-A386-03BD1D0D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4D9-B1FD-4A5B-98F2-7830101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AF4-ED2B-432C-B89D-583E23A6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0B9-3BB7-4C5D-90A7-E79EC61C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E0D-4B83-4D2C-B13F-5ED0A6E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DE4-61CA-4666-8AB3-911D7A0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920-67EB-49D8-B93E-21B3DA8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BBD-20C1-4409-886D-D08107D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88C-F613-4C73-A03C-6EEADBB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9E39-35E4-4750-B00C-C214C7E33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7A8-2CB2-48CE-8EEF-11DFFC9FD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ПРЕДЕЛЕНИЕ РАСХОДА ВОЗДУХА НА АСПИРАЦ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E30-B3F7-483B-B3D4-34CC9E2E8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бщий расход воздуха в аспирационной сети 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7030a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е. количество воздуха, перемещаемого вентилятором, включает сумму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сходов воздуха от аспирируемого оборудования </a:t>
            </a:r>
            <a:r>
              <a:rPr b="1" lang="el-GR" sz="2000" spc="-1" strike="noStrike">
                <a:solidFill>
                  <a:srgbClr val="0070c0"/>
                </a:solidFill>
                <a:latin typeface="Arial"/>
              </a:rPr>
              <a:t>Σ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четом присосов воздуха через неплотности в сети и пылеотделителях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31D1-5C4B-4FBB-93BB-2AF81223B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0" y="260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ПРЕДЕЛЕНИЕ РАСХОДА ВОЗДУХА НА АСПИРАЦИЮ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648648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4724280"/>
            <a:ext cx="8964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1,05 - коэффициент, учитывающий присосы воздуха через неплотности се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п.о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осы воздуха в пылеотделителях и филь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всасывающих рукавных филь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сос воздуха в батарейном циклоне с шлюзовым затвором принимается рав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271-BCDB-40BF-84FD-707E840C6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547640" y="1481040"/>
            <a:ext cx="5185080" cy="81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868720" cy="8575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503280" y="4437000"/>
            <a:ext cx="86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вухступенчатой очистке воздуха последовательно в батарейных циклонах и рукавном фильтре общий расход воздуха в аспирационной сети рассчитыва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826920" y="5445000"/>
            <a:ext cx="74599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16000" y="220500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батарейных циклонов типа У21-ББЦ предназначены для очистки запыленного воздуха, поступающего из аспирационных и пневмотранспортных сетей хлебоприемных и хлебоперерабатывающих предприятий. Батарейные установки изготавливаются по I категории ГОСТ 15150 в климатическом исполнении «У». Батарейные установки изготавливаются десяти типоразмеров в четырех исполнениях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 выбросом очищенного воздуха вбок и вверх с двумя типами привода шлюзовых затворов каждый. Привод блока шлюзовых затворов может быть от электродвигателя и редуктора или от мотор-редукто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F4C8-D295-4F8E-BAE3-980220097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95280" y="0"/>
            <a:ext cx="834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42B-43C6-4311-A36B-900F088D6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dima</cp:lastModifiedBy>
  <dcterms:modified xsi:type="dcterms:W3CDTF">2016-10-03T04:50:16Z</dcterms:modified>
  <cp:revision>169</cp:revision>
  <dc:subject/>
  <dc:title>АВТОМАТИЗАЦИЯ ПРОИЗВОДСТВ В ПИЩЕВОЙ ПРОМЫШЛЕННОСТИ</dc:title>
</cp:coreProperties>
</file>